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BF6-D007-4CBD-AC5F-5594E7D1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33C-A174-4813-A9BF-9D8BB619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2B7-6DBC-4FFB-AEB7-2D736127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905-C210-40AD-8169-7BE9BD9C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B67-8D43-409C-9B6E-E3AD95EE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E64-0CDE-4ED9-ADF2-98A5EF3F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C2B-B1CA-4FF1-8318-90DC40BE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3CA-94AB-4884-892C-0DF6CE2F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4B8-116F-404C-88E4-FBBAA739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F96-45C1-4539-ACBF-46B3B644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6F0-D765-47C0-A179-15522041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3A4-8458-48A8-97E9-E1494B2A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9E1B-5FC1-4111-92C6-BBFC99A4432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6 Tak mnoho prác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je vôkol n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zlomnou vierou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ľaď stále na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vedkom lásky jeho sa staň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 celý, stíš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 Boží hlas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Je doba vzácn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milosti ča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mnoho práce je vôkol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atva sa blíži, dozrieva k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ltnúce lány zvestujú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koro príde náš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 celý, stíš s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 Boží hlas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doba vzácna, je milosti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Božej láske šíri sa zv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svetlom pravd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ľudí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ľutuj času, neboj sa strá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znamuj spásu, pomáhaj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 celý, stíš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 Boží hlas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Je doba vzácn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milosti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, čo ľuďom sľubuje sve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klamné zdanie,vädnúci kvet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rvá len Božie zasľúbenie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v Boha dúfa, nezahy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 celý, stíš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 Boží hlas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Je doba vzácn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milosti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si ho prijal, šír jeho č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olstvo vzácn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š svetu niesť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4:24:48Z</dcterms:modified>
  <cp:revision>40</cp:revision>
  <dc:subject/>
  <dc:title>Je veľký náš Pán, on slávy je Kráľ Nech do všetkých strán  spev vrúcnych znie chvál.</dc:title>
</cp:coreProperties>
</file>